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290-2DB9-4BC1-8D7F-E8BBDBBC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EC8-AF71-47D5-AE7A-A0E520AD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716-0C8B-41BB-9CB8-1194D63D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53F-6B9A-4451-BDE8-119FC820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6C4-20E3-48CD-BAED-27FA6643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81D-F8FF-428E-860C-65B44E3D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EB7-2823-4D7F-A2F9-21D572AF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724-4BB4-45D5-8251-ACA7AAB1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B88-8822-4264-85C6-D860CD08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BD9-A5A1-4F4C-A17A-5577EA33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53A-C2CB-498F-92AC-36A02F91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FA9-5D50-4B00-AB51-5E0661A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8FF-B6FC-44A8-91F3-0434D073D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ingclips.com/movie-clips/cinderella-man/breaking-my-promise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4-2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work with my peers to develop a deeper understanding of the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276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ich parent do you agree with? 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771120" y="5638680"/>
            <a:ext cx="76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ingclips.com/movie-clips/cinderella-man/breaking-my-pro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assigned reading pages and job page for the discussion which will take place the second half of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on your Thoughtful Text 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 all of the work, you may get with your group members to work on your trailer, read your SSR book, or work on the “I Can”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lass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all members of th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member speaks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group members will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must be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ut dow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alifornian FB"/>
              </a:rPr>
              <a:t>Discussion Tasks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Discussion Direc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ut in your “two cent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Literary Luminary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cor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Word Wizard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p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Creative Connec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ake one from the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telligent Illustrator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4 corners quick sk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share your “Thoughtful Text”, take a card every time you share a piece of text or respon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Ideas for Invisible Children Pos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ere are the kids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at are the kids in danger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at has the group “Invisible Children” done for the kids so f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ere will the money raised go?  What purpose do the funds se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Why should people do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Powerful qu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Statements from the k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01:53:42Z</dcterms:created>
  <dc:creator>Administrator</dc:creator>
  <dc:description/>
  <dc:language>en-US</dc:language>
  <cp:lastModifiedBy>Administrator</cp:lastModifiedBy>
  <dcterms:modified xsi:type="dcterms:W3CDTF">2011-04-26T02:05:47Z</dcterms:modified>
  <cp:revision>5</cp:revision>
  <dc:subject/>
  <dc:title>Do Now 4-26 I can work with my peers to develop a deeper understanding of the text.</dc:title>
</cp:coreProperties>
</file>